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5A0-43B9-4F19-A0E6-B0EBF12B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FD7-48FE-42B4-BAEB-5F3248E0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2F7-DE62-430A-9659-5C5FB63F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317C-0C4E-4D2E-B0DB-F815D26F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415-B042-423D-B2EE-33F7F704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BD6-DB3A-4F2F-AA96-3A2AE95F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D21-E65F-482D-8600-CC2779E3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000-01E8-4DFC-B696-2A76870D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143-3257-41C8-A909-B020070C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F4B-0665-43A7-B2BF-A5968895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9BB-4A05-4BD2-81E5-89EFA2D4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BBA-3ECF-40B3-A65C-E3C1C6B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FF00-4DF9-4E02-8A68-14BBD8043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ack Ob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remy Edmo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Black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Barack Obama"/>
          <p:cNvPicPr/>
          <p:nvPr/>
        </p:nvPicPr>
        <p:blipFill>
          <a:blip r:embed="rId1"/>
          <a:stretch/>
        </p:blipFill>
        <p:spPr>
          <a:xfrm>
            <a:off x="4038480" y="53352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ack Hussein Obama was born on August 4,1961 in Hawaii. His father was a Kenyan Muslim and mother an American Christ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age of two, his parents divorced and Obama went to live with his mother in Indone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ama's mother Ann Dunham, married an Indonesian Oil manager. After staying a few years with his mother, Obama went to America to do his high school and lived with his grandpar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 was able to get admission in a very prestigious prep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 later attended Columbia University and then Harvard Law School in 1988 from where he received his law degree. In Harvard he made news by becoming the first African-American to chair the prestigious Harvard Law Revie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f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getting his degree, he chose not to join a well paying job and instead chose to work for civil rights and joined the civil rights law firm Miner, Barnhill &amp; Gal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lso taught constitutional law at the University of Chicago Law School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working at a corporate law firm, Obama met Michelle Robinson whom he married in 19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, Obama won the senate seat from Illinois to become the fifth African-American senator in the history of the U.S.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ebruary 2007, Senator Barack Obama formally signed his candidature for the post of President whose elections are to be held in November, 2008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Accompl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ted to be a strong candidate, he might again create history by becoming the first African-American President of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November 4, 2008, Barack Obama defeated John McCain in the general election and became the first African American to be elected President of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50:15Z</dcterms:created>
  <dc:creator>759670</dc:creator>
  <dc:description/>
  <dc:language>en-US</dc:language>
  <cp:lastModifiedBy>759670</cp:lastModifiedBy>
  <dcterms:modified xsi:type="dcterms:W3CDTF">2008-11-20T17:11:40Z</dcterms:modified>
  <cp:revision>2</cp:revision>
  <dc:subject/>
  <dc:title>Barack Obama</dc:title>
</cp:coreProperties>
</file>